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86628-2D65-479F-9CFC-5F0A70435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832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20B18-EB55-4F64-A620-5528AD9FC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66306-4285-4A1F-902F-A51F7CA9D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68804-7F97-4F9C-9C64-CEDA6B123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8320"/>
            <a:ext cx="9066240" cy="55404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05BB0-4A40-4CF1-A751-C3C86A580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05D9F-31DC-44BC-AF35-5B42466A3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616B2-D6DE-4A73-999E-C23700A70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3CA57-9AB1-4014-A422-8C833CD4A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FA667-5EFB-4EAA-BBCA-949A79109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5A419-7003-420B-914A-22DD8B08C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C6E80-6BCA-4AB3-86D0-CCAC1BEAA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BF028-80AF-412F-BBDC-D6699D9F5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F26D76-763F-412D-9442-4D8FB8C0E778}"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is is the title of a Microsoft Word or Powerpoint docu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e documen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has new line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And paragraphs (this is the title of the first one).</a:t>
            </a:r>
            <a:endParaRPr b="0" lang="en-US" sz="4400" spc="-1" strike="noStrike">
              <a:solidFill>
                <a:srgbClr val="000000"/>
              </a:solidFill>
              <a:latin typeface="Arial"/>
            </a:endParaRPr>
          </a:p>
        </p:txBody>
      </p:sp>
      <p:sp>
        <p:nvSpPr>
          <p:cNvPr id="44" name="PlaceHolder 2"/>
          <p:cNvSpPr>
            <a:spLocks noGrp="1"/>
          </p:cNvSpPr>
          <p:nvPr>
            <p:ph/>
          </p:nvPr>
        </p:nvSpPr>
        <p:spPr>
          <a:xfrm>
            <a:off x="502920" y="1767960"/>
            <a:ext cx="9070920" cy="7364520"/>
          </a:xfrm>
          <a:prstGeom prst="rect">
            <a:avLst/>
          </a:prstGeom>
          <a:noFill/>
          <a:ln w="0">
            <a:noFill/>
          </a:ln>
        </p:spPr>
        <p:txBody>
          <a:bodyPr lIns="0" rIns="0" tIns="28080" bIns="0" anchor="t">
            <a:normAutofit fontScale="99000"/>
          </a:bodyPr>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Second part of the first paragraph. Second part of the first paragraph. Second part of the first paragraph. Second part of the first paragraph. Second part of the first paragraph. Second par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ird</a:t>
            </a:r>
            <a:r>
              <a:rPr b="0" lang="fr-FR" sz="3200" spc="-1" strike="noStrike">
                <a:solidFill>
                  <a:srgbClr val="000000"/>
                </a:solidFill>
                <a:latin typeface="Arial"/>
                <a:ea typeface="Calibri"/>
              </a:rPr>
              <a:t> </a:t>
            </a:r>
            <a:r>
              <a:rPr b="0" lang="fr-FR" sz="3200" spc="-1" strike="noStrike">
                <a:solidFill>
                  <a:srgbClr val="000000"/>
                </a:solidFill>
                <a:latin typeface="Arial"/>
                <a:ea typeface="WenQuanYi Micro Hei"/>
              </a:rPr>
              <a:t>par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Second paragraph: lets talk about cinema.</a:t>
            </a:r>
            <a:endParaRPr b="0" lang="en-US" sz="4400" spc="-1" strike="noStrike">
              <a:solidFill>
                <a:srgbClr val="000000"/>
              </a:solidFill>
              <a:latin typeface="Arial"/>
            </a:endParaRPr>
          </a:p>
        </p:txBody>
      </p:sp>
      <p:sp>
        <p:nvSpPr>
          <p:cNvPr id="46" name="PlaceHolder 2"/>
          <p:cNvSpPr>
            <a:spLocks noGrp="1"/>
          </p:cNvSpPr>
          <p:nvPr>
            <p:ph/>
          </p:nvPr>
        </p:nvSpPr>
        <p:spPr>
          <a:xfrm>
            <a:off x="502920" y="1767960"/>
            <a:ext cx="9069480" cy="709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La Strada (English: The Road) is a 1954 Italian drama film directed by Federico Fellini and starring Anthony Quinn, Giulietta Masina, and Richard Basehart. Written by Fellini, Tullio Pinelli, and Ennio Flaiano, the film is about a naïve young woman who is sold to a brutish man who takes her on the road as part of his itinerant show. La Strada won the Academy Award for Best Foreign Language Film in 1956, the first presented in that category.</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ext after 2 new lin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Now lets play with accents.</a:t>
            </a:r>
            <a:endParaRPr b="0" lang="en-US" sz="4400" spc="-1" strike="noStrike">
              <a:solidFill>
                <a:srgbClr val="000000"/>
              </a:solidFill>
              <a:latin typeface="Arial"/>
            </a:endParaRPr>
          </a:p>
        </p:txBody>
      </p:sp>
      <p:sp>
        <p:nvSpPr>
          <p:cNvPr id="48" name="PlaceHolder 2"/>
          <p:cNvSpPr>
            <a:spLocks noGrp="1"/>
          </p:cNvSpPr>
          <p:nvPr>
            <p:ph/>
          </p:nvPr>
        </p:nvSpPr>
        <p:spPr>
          <a:xfrm>
            <a:off x="502920" y="1767960"/>
            <a:ext cx="9069480" cy="5542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aigu : é</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grave : è</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circonflexe : ê</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tréma : ë</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t bien d'autres encore : &amp;~#{[|`\çà@]}”()'-_=+$*ù%/§!:;,?.&lt;&g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5T08:43:06Z</dcterms:created>
  <dc:creator>Antoine Taillefer</dc:creator>
  <dc:description/>
  <dc:language>en-US</dc:language>
  <cp:lastModifiedBy/>
  <cp:revision>1</cp:revision>
  <dc:subject/>
  <dc:title/>
</cp:coreProperties>
</file>